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271-26C8-4F80-BA12-9466C831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51C-B3BB-43C5-8006-1418B38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94A-64B2-4F86-BF4F-A642C2CC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BED-B3A2-4BD4-B489-E745562E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5A5-1226-4A41-9737-4D624F78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D7F-5345-4874-A13E-378D988B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D15-FA61-4D9C-963B-51CA37AB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D56-C2F2-45E0-BAC5-216ADFC1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1A3-3134-4F3C-A681-E48EB6CB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B2F-69B2-414E-9FB8-67676D1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DC6-026B-4911-9FBC-6FFCAA30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AF3-5F8D-49F3-813D-3C36439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2110-79F0-4F09-9732-E68AC7044B4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18:04Z</dcterms:created>
  <dc:creator>Grupo Editorial</dc:creator>
  <dc:description/>
  <dc:language>en-US</dc:language>
  <cp:lastModifiedBy>TORRES</cp:lastModifiedBy>
  <dcterms:modified xsi:type="dcterms:W3CDTF">2010-12-18T22:25:55Z</dcterms:modified>
  <cp:revision>1</cp:revision>
  <dc:subject/>
  <dc:title>Sin título de diapositiva</dc:title>
</cp:coreProperties>
</file>